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8.xml"/><Relationship Id="rId5" Type="http://schemas.openxmlformats.org/officeDocument/2006/relationships/slide" Target="slide1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1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Enzymindu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Freisetzung a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Zellen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4" action="ppaction://hlinksldjump"/>
              </a:rPr>
              <a:t>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101" idx="3"/>
            <a:endCxn id="98" idx="1"/>
          </p:cNvCxnSpPr>
          <p:nvPr/>
        </p:nvCxnSpPr>
        <p:spPr>
          <a:xfrm flipV="1">
            <a:off x="3313080" y="3404160"/>
            <a:ext cx="2699280" cy="67824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2" name=""/>
          <p:cNvCxnSpPr>
            <a:stCxn id="101" idx="3"/>
            <a:endCxn id="99" idx="1"/>
          </p:cNvCxnSpPr>
          <p:nvPr/>
        </p:nvCxnSpPr>
        <p:spPr>
          <a:xfrm>
            <a:off x="3313080" y="4082040"/>
            <a:ext cx="2699280" cy="67356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P-Aktivität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95320" y="54936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P-Aktivität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9840" y="6396840"/>
            <a:ext cx="282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P = alkalische Phosphatas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7" idx="3"/>
            <a:endCxn id="108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0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nzymindu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Glukokortikoi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72360" y="549360"/>
            <a:ext cx="34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P-Aktivität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Enzymindu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49840" y="6396840"/>
            <a:ext cx="282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P = alkalische Phosphatas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lukokortikoi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26800" y="549360"/>
            <a:ext cx="66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P-Aktivität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Enzyminduktio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Einfluss von Glukokortikoi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2" idx="3"/>
            <a:endCxn id="115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15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yperadrenokortizismu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abe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lukokortikoiden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9840" y="6396840"/>
            <a:ext cx="282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P = alkalische Phosphatas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reisetzung a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Zellen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chädigung von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Leber- o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Gallengangszell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Knochenumbau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8" idx="3"/>
            <a:endCxn id="119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22" name=""/>
          <p:cNvCxnSpPr>
            <a:stCxn id="118" idx="3"/>
            <a:endCxn id="120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972360" y="549360"/>
            <a:ext cx="42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P-Aktivität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Freisetzung aus Zellen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7" action="ppaction://hlinksldjump"/>
              </a:rPr>
              <a:t>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9840" y="6396840"/>
            <a:ext cx="282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P = alkalische Phosphatas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hädigung von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ber- o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llengangszell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6" idx="3"/>
            <a:endCxn id="128" idx="1"/>
          </p:cNvCxnSpPr>
          <p:nvPr/>
        </p:nvCxnSpPr>
        <p:spPr>
          <a:xfrm flipV="1">
            <a:off x="3313080" y="2733120"/>
            <a:ext cx="2689920" cy="13482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29" name=""/>
          <p:cNvCxnSpPr>
            <a:stCxn id="126" idx="3"/>
            <a:endCxn id="130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31" name=""/>
          <p:cNvCxnSpPr>
            <a:stCxn id="126" idx="3"/>
            <a:endCxn id="132" idx="1"/>
          </p:cNvCxnSpPr>
          <p:nvPr/>
        </p:nvCxnSpPr>
        <p:spPr>
          <a:xfrm>
            <a:off x="3313080" y="4080960"/>
            <a:ext cx="2689920" cy="1351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30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rankheit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Gallengäng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82880" y="549360"/>
            <a:ext cx="742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P-Aktivität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Freisetzung aus Zellen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chädigung von Leber- o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Gallengangszell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486900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kundäre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hädigung dur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xtrahepat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ole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12000" y="21718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Krankheit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Leb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9840" y="6396840"/>
            <a:ext cx="282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P = alkalische Phosphatas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rankheit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b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82880" y="549360"/>
            <a:ext cx="742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P-Aktivität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Freisetzung aus Zellen ↑ &gt; Schädigung von Leber- o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Gallengangszellen &gt; Krankheit der Leb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8" name=""/>
          <p:cNvCxnSpPr>
            <a:stCxn id="136" idx="3"/>
            <a:endCxn id="139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39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chronische Hepatit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IP,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ymphom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epatozelluläres Karzinom,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epatische Lipid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Gabe von NSAID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ekundäre Schädig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z. B. durch Hyperthyreose)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9480" y="5666760"/>
            <a:ext cx="3881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AP = alkalische Phosphatas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P = feline infektiöse Peritoniti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NSAIDs = nicht-steroidale Antiphlogistika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rankheit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llengäng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3760" y="549360"/>
            <a:ext cx="792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-Aktivität ↑ &gt; Freisetzung aus Zellen ↑ &gt; Schädigung von Leber- o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Gallengangszellen &gt; Krankheit der Gallengäng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42" idx="3"/>
            <a:endCxn id="145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45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allenstein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allengangstumor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9840" y="6396840"/>
            <a:ext cx="282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P = alkalische Phosphatas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nochenumbau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5560" y="549360"/>
            <a:ext cx="65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AP-Aktivität ↑ &gt; Freisetzung aus Zellen ↑ &gt; Knochenumbau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8" idx="3"/>
            <a:endCxn id="151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51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Wachstum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Osteomyelit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osteolytischer Tumor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9840" y="6396840"/>
            <a:ext cx="282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P = alkalische Phosphatas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4T16:51:23Z</dcterms:modified>
  <cp:revision>338</cp:revision>
  <dc:subject/>
  <dc:title>Vorstellung einer Neuheit</dc:title>
</cp:coreProperties>
</file>